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E47-0855-433C-A632-CC0026CD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601-F8BE-4ECC-80A7-3D0CD3B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38D-3EC8-42F3-ABD5-0B00B46C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BC5-E847-4B17-81E8-831DD8F4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002A-A8B5-4CE1-BC10-ECB6F85C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5504-8D74-4C03-BC99-59217681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539-1986-4A7B-BF50-1EFD98C6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B46A-0C01-435B-8A6D-6E8B103D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95BB-498E-4167-B468-12A64E36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D46B-4FA0-49C3-83E0-4396697D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8D0E-A9C9-4FC2-82E9-AF7E0AA2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D71-6228-44B2-AA69-CECACECF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C4B-892B-45E3-91C8-4059B51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8C85-352D-4503-94F7-9F890B8C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1789-1D78-4A65-B832-0FEF50B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F563-F22D-4E82-BFD8-D34C03FB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41C2-34E5-4966-94A1-3952AE2D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57FB-F15D-44C2-B93B-EC52D28F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39FD-2612-4598-8D26-82C1E85B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629D-2502-41D2-A9F1-35EE4569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4DFE-E8D4-4620-90C8-8982596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DCAB5-3B3D-4EB7-ADC3-B975D811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284-6629-444E-BD79-544F0F75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2BE6-F221-476C-A03F-E166DE49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B296-A564-4B12-A759-63C79639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88EE-1BF3-4E2B-9EC4-02F92DB3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4584-480C-46A0-ACF3-DE52A1BE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74B2-8CB0-412A-8F54-80356181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D454-1C77-4879-9C21-F6B53F52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B920-98CB-4CBB-95BB-247A4770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BD644-F1BB-4DA6-AED3-34DD1EF3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8D542-C56A-4407-9C04-6D0680B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4BD25-6C08-4DB1-9CA7-A906E13B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DB7-AE6A-4388-AFE4-E8E17BE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4F0DE-4879-47D0-95AD-0D445C90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D7B7-C32C-4105-B8B5-34A148A7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4BC5-6B00-479B-ABC9-E30E7E2F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E992-3E0A-416A-A8EB-FB2D74D0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47AD-8514-44A6-B25F-6B556A0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4B07-11AE-41FF-97C5-1CCA94D4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E519-0FEA-4E98-A985-3909A678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669D-CA2D-4815-9692-E4FC1B43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25A9-E815-4C58-B1F7-5CA8A6A4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2A3-8234-493A-B3BE-365A5995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4CF-EF5F-412C-8F5F-B9BDB6DB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490-5492-4F08-9446-809ABABB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796-4CBE-4438-AE2F-A3CBE30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0F4-D548-4E1C-9FEA-26E83C7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5F37-CEB4-4E39-8FC4-E4E8D472D166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9AA6-1C4B-4A93-9D4E-C20C9A8790E8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E1A4-C950-487C-9F49-A3231B7F1E48}" type="slidenum">
              <a:rPr b="0" lang="en-US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AAC3-43AB-4C09-A869-2EE967653386}" type="slidenum">
              <a:rPr b="0" lang="en-US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Enclave" TargetMode="External"/><Relationship Id="rId3" Type="http://schemas.openxmlformats.org/officeDocument/2006/relationships/hyperlink" Target="http://fr.wikipedia.org/wiki/Cabinda" TargetMode="External"/><Relationship Id="rId4" Type="http://schemas.openxmlformats.org/officeDocument/2006/relationships/hyperlink" Target="http://fr.wikipedia.org/wiki/Angola" TargetMode="External"/><Relationship Id="rId5" Type="http://schemas.openxmlformats.org/officeDocument/2006/relationships/hyperlink" Target="http://fr.wikipedia.org/wiki/R&#233;publique_du_Congo" TargetMode="External"/><Relationship Id="rId6" Type="http://schemas.openxmlformats.org/officeDocument/2006/relationships/hyperlink" Target="http://fr.wikipedia.org/wiki/R&#233;publique_centrafricaine" TargetMode="External"/><Relationship Id="rId7" Type="http://schemas.openxmlformats.org/officeDocument/2006/relationships/hyperlink" Target="http://fr.wikipedia.org/wiki/Soudan" TargetMode="External"/><Relationship Id="rId8" Type="http://schemas.openxmlformats.org/officeDocument/2006/relationships/hyperlink" Target="http://fr.wikipedia.org/wiki/Ouganda" TargetMode="External"/><Relationship Id="rId9" Type="http://schemas.openxmlformats.org/officeDocument/2006/relationships/hyperlink" Target="http://fr.wikipedia.org/wiki/Rwanda" TargetMode="External"/><Relationship Id="rId10" Type="http://schemas.openxmlformats.org/officeDocument/2006/relationships/hyperlink" Target="http://fr.wikipedia.org/wiki/Burundi" TargetMode="External"/><Relationship Id="rId11" Type="http://schemas.openxmlformats.org/officeDocument/2006/relationships/hyperlink" Target="http://fr.wikipedia.org/wiki/Tanzanie" TargetMode="External"/><Relationship Id="rId12" Type="http://schemas.openxmlformats.org/officeDocument/2006/relationships/hyperlink" Target="http://fr.wikipedia.org/wiki/Zambie" TargetMode="External"/><Relationship Id="rId13" Type="http://schemas.openxmlformats.org/officeDocument/2006/relationships/hyperlink" Target="http://fr.wikipedia.org/wiki/Angola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Bandundu" TargetMode="External"/><Relationship Id="rId3" Type="http://schemas.openxmlformats.org/officeDocument/2006/relationships/hyperlink" Target="http://fr.wikipedia.org/wiki/Bas-Congo" TargetMode="External"/><Relationship Id="rId4" Type="http://schemas.openxmlformats.org/officeDocument/2006/relationships/hyperlink" Target="http://fr.wikipedia.org/wiki/&#201;quateur_(province)" TargetMode="External"/><Relationship Id="rId5" Type="http://schemas.openxmlformats.org/officeDocument/2006/relationships/hyperlink" Target="http://fr.wikipedia.org/wiki/Kasa&#239;-Occidental" TargetMode="External"/><Relationship Id="rId6" Type="http://schemas.openxmlformats.org/officeDocument/2006/relationships/hyperlink" Target="http://fr.wikipedia.org/wiki/Kasa&#239;-Oriental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2"/>
          <a:stretch/>
        </p:blipFill>
        <p:spPr>
          <a:xfrm>
            <a:off x="298440" y="463680"/>
            <a:ext cx="8272440" cy="2249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</a:t>
            </a: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é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nt</a:t>
            </a:r>
            <a:r>
              <a:rPr b="0" lang="en-GB" sz="2600" spc="-1" strike="noStrike">
                <a:solidFill>
                  <a:srgbClr val="ffffff"/>
                </a:solidFill>
                <a:latin typeface="Constantia"/>
              </a:rPr>
              <a:t>é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r Sandra B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democratic-republic-of-the-congo-flag.gif"/>
          <p:cNvPicPr/>
          <p:nvPr/>
        </p:nvPicPr>
        <p:blipFill>
          <a:blip r:embed="rId3"/>
          <a:stretch/>
        </p:blipFill>
        <p:spPr>
          <a:xfrm>
            <a:off x="304920" y="4267080"/>
            <a:ext cx="365760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Quelques photos de la RDC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8" name="Content Placeholder 12" descr="bonobos.jpg"/>
          <p:cNvPicPr/>
          <p:nvPr/>
        </p:nvPicPr>
        <p:blipFill>
          <a:blip r:embed="rId2"/>
          <a:stretch/>
        </p:blipFill>
        <p:spPr>
          <a:xfrm>
            <a:off x="304920" y="1905120"/>
            <a:ext cx="3019320" cy="1514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Bukavu1.jpg"/>
          <p:cNvPicPr/>
          <p:nvPr/>
        </p:nvPicPr>
        <p:blipFill>
          <a:blip r:embed="rId3"/>
          <a:stretch/>
        </p:blipFill>
        <p:spPr>
          <a:xfrm>
            <a:off x="685800" y="40384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les gorilles.jpg"/>
          <p:cNvPicPr/>
          <p:nvPr/>
        </p:nvPicPr>
        <p:blipFill>
          <a:blip r:embed="rId4"/>
          <a:stretch/>
        </p:blipFill>
        <p:spPr>
          <a:xfrm>
            <a:off x="4191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MBM1.jpg"/>
          <p:cNvPicPr/>
          <p:nvPr/>
        </p:nvPicPr>
        <p:blipFill>
          <a:blip r:embed="rId5"/>
          <a:stretch/>
        </p:blipFill>
        <p:spPr>
          <a:xfrm>
            <a:off x="4572000" y="4343400"/>
            <a:ext cx="2610000" cy="17524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Kinshasa, la Capital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3" name="Picture 4" descr="Kin5.jpg"/>
          <p:cNvPicPr/>
          <p:nvPr/>
        </p:nvPicPr>
        <p:blipFill>
          <a:blip r:embed="rId2"/>
          <a:stretch/>
        </p:blipFill>
        <p:spPr>
          <a:xfrm>
            <a:off x="6324480" y="47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3170915357_e73485874b_z.jpg"/>
          <p:cNvPicPr/>
          <p:nvPr/>
        </p:nvPicPr>
        <p:blipFill>
          <a:blip r:embed="rId3"/>
          <a:stretch/>
        </p:blipFill>
        <p:spPr>
          <a:xfrm>
            <a:off x="507960" y="2590920"/>
            <a:ext cx="4597560" cy="3886200"/>
          </a:xfrm>
          <a:prstGeom prst="rect">
            <a:avLst/>
          </a:prstGeom>
          <a:ln w="0">
            <a:noFill/>
          </a:ln>
        </p:spPr>
      </p:pic>
      <p:pic>
        <p:nvPicPr>
          <p:cNvPr id="225" name="Content Placeholder 9" descr="kin6.jpg"/>
          <p:cNvPicPr/>
          <p:nvPr/>
        </p:nvPicPr>
        <p:blipFill>
          <a:blip r:embed="rId4"/>
          <a:stretch/>
        </p:blipFill>
        <p:spPr>
          <a:xfrm>
            <a:off x="5486400" y="198108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Muanjadi Foundation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ttp://www.muanjadifoundation.org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Source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.CIA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. https://www.cia.gov/library/publications/the-world-factbook/geos/cg.html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a cart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Rdc_acceuil.jpg"/>
          <p:cNvPicPr/>
          <p:nvPr/>
        </p:nvPicPr>
        <p:blipFill>
          <a:blip r:embed="rId2"/>
          <a:stretch/>
        </p:blipFill>
        <p:spPr>
          <a:xfrm>
            <a:off x="1155600" y="2057400"/>
            <a:ext cx="7378920" cy="444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La g</a:t>
            </a:r>
            <a:r>
              <a:rPr b="0" lang="en-GB" sz="4500" spc="-1" strike="noStrike">
                <a:solidFill>
                  <a:srgbClr val="666666"/>
                </a:solidFill>
                <a:latin typeface="Calibri"/>
              </a:rPr>
              <a:t>é</a:t>
            </a: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ographie physique 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pays partage ses frontières avec l’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2"/>
              </a:rPr>
              <a:t>enclav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de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3"/>
              </a:rPr>
              <a:t>Cabind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(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4"/>
              </a:rPr>
              <a:t>Angol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) et la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5"/>
              </a:rPr>
              <a:t>République du Congo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à l’ouest, la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6"/>
              </a:rPr>
              <a:t>République centrafricain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et le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7"/>
              </a:rPr>
              <a:t>Soudan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au nord, l’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8"/>
              </a:rPr>
              <a:t>Ougand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, le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9"/>
              </a:rPr>
              <a:t>Rwand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, le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10"/>
              </a:rPr>
              <a:t>Burundi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et la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11"/>
              </a:rPr>
              <a:t>Tanzani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à l’est, la 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12"/>
              </a:rPr>
              <a:t>Zambie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et l’</a:t>
            </a:r>
            <a:r>
              <a:rPr b="0" lang="fr-FR" sz="2600" spc="-1" strike="noStrike" u="sng">
                <a:solidFill>
                  <a:srgbClr val="17bbfd"/>
                </a:solidFill>
                <a:uFillTx/>
                <a:latin typeface="Constantia"/>
                <a:hlinkClick r:id="rId13"/>
              </a:rPr>
              <a:t>Angola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au sud.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666666"/>
                </a:solidFill>
                <a:latin typeface="Calibri"/>
              </a:rPr>
              <a:t>Les provinces de la RDC</a:t>
            </a:r>
            <a:endParaRPr b="0" lang="en-US" sz="45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5" descr="DCongoNumbered.png"/>
          <p:cNvPicPr/>
          <p:nvPr/>
        </p:nvPicPr>
        <p:blipFill>
          <a:blip r:embed="rId2"/>
          <a:stretch/>
        </p:blipFill>
        <p:spPr>
          <a:xfrm>
            <a:off x="914400" y="1828800"/>
            <a:ext cx="5181480" cy="356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74674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es province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2"/>
              </a:rPr>
              <a:t>Bandund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3"/>
              </a:rPr>
              <a:t>Bas-Cong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4"/>
              </a:rPr>
              <a:t>Équateu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5"/>
              </a:rPr>
              <a:t>Kasaï-Occiden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17bbfd"/>
                </a:solidFill>
                <a:uFillTx/>
                <a:latin typeface="Constantia"/>
                <a:hlinkClick r:id="rId6"/>
              </a:rPr>
              <a:t>Kasaï-Orien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atang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Kins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anie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ord-Kiv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rient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ud-Kiv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Les langue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angue officielle: França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4 Langues Nationale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Swahil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Tshilub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Lingal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nstantia"/>
              </a:rPr>
              <a:t>Kikong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lus de 200 dialectes parl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Politiqu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Joseph Désiré Mobutu(30 a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aurent Désiré Kabila(5 a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Joseph Kabila(2001 jusqu’à ce jou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Droits de l’homme ne sont pas respec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Élections sont prévus en  Novembre 201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                   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Economie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’agriculture  est le principal secteur economiq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 taux de chomage est t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è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v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0% de la population vit en dessous du seuil de pauvre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ix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é a $2,00 par jo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Quelques scupltures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5" name="Content Placeholder 3" descr="406px-Mulwalwa_helmet_mask_Berlin-Dahlem.jpg"/>
          <p:cNvPicPr/>
          <p:nvPr/>
        </p:nvPicPr>
        <p:blipFill>
          <a:blip r:embed="rId2"/>
          <a:stretch/>
        </p:blipFill>
        <p:spPr>
          <a:xfrm>
            <a:off x="838080" y="1981080"/>
            <a:ext cx="2975040" cy="438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31px-Tissus_de_raphia_brodés._Bashoba._-_NYPL.jpg"/>
          <p:cNvPicPr/>
          <p:nvPr/>
        </p:nvPicPr>
        <p:blipFill>
          <a:blip r:embed="rId3"/>
          <a:stretch/>
        </p:blipFill>
        <p:spPr>
          <a:xfrm>
            <a:off x="4800600" y="1828800"/>
            <a:ext cx="3124080" cy="45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20:12:59Z</dcterms:created>
  <dc:creator>User</dc:creator>
  <dc:description/>
  <dc:language>en-US</dc:language>
  <cp:lastModifiedBy>Chris</cp:lastModifiedBy>
  <dcterms:modified xsi:type="dcterms:W3CDTF">2011-03-03T03:23:25Z</dcterms:modified>
  <cp:revision>37</cp:revision>
  <dc:subject/>
  <dc:title>Les risques de l’aphabetisation</dc:title>
</cp:coreProperties>
</file>